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A20-F82F-4CA3-8998-D447B5FC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1EF-CEF9-4183-9D25-2E2C5F36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531-9351-454C-A21A-090D1C71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CC9A-7590-4EF2-B589-E3F328E9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D433-59FC-44AF-84DD-23BEEF04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345D-1410-4A43-8E50-5830D180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F93F-5C00-4C1B-A6E0-19E19E11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E6A8-5289-44DA-B36B-11EFADBE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C511-1835-483E-B555-7664C3DC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4286-B0E1-4D06-AB6A-8A166AC9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F93D-CF5F-41AB-A4B4-06A67ED8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5FE-AADA-40A4-BD57-71FF8D05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D329-F621-4897-8F32-133B23DA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D79C-4C70-4C17-83B7-04057398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D3BF-BB50-4DDA-941F-63905BED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F16E-BF50-43A5-9D6B-36C2C2C4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44BA-7CEB-4B7E-84E2-F6B9B2E8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238-CEBE-4529-A602-4F1F140A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2FC-FD73-4D9F-80AE-DE67B760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03F-95C9-42F3-ACDE-89331898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794-2600-43F0-85EA-AD562232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450-3E96-4F0C-A3B3-9A5D8A89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001-022E-4EEB-8A2C-85F0D58D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31C-E6D0-4DE3-89D9-053A7832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DF0E-E170-460A-95C3-D741E534044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0BF3-831C-46BF-8886-1E9A57A85B0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Mi Mansi</a:t>
            </a:r>
            <a:r>
              <a:rPr b="0" lang="en-US" sz="4400" spc="-1" strike="noStrike">
                <a:solidFill>
                  <a:srgbClr val="fe1f08"/>
                </a:solidFill>
                <a:latin typeface="Arial Black"/>
                <a:ea typeface="Arial"/>
              </a:rPr>
              <a:t>ó</a:t>
            </a: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: Evan Morris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676520" y="2562120"/>
            <a:ext cx="60195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El gara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caro garaj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762120" y="2454120"/>
            <a:ext cx="65624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Mi Tipo de cas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tipo de casa es una mansi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  <a:ea typeface="Arial"/>
              </a:rPr>
              <a:t>ó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3880" y="2562120"/>
            <a:ext cx="60199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7ff"/>
                </a:solidFill>
                <a:latin typeface="Arial Black"/>
              </a:rPr>
              <a:t>Mi Coci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ta es mi cocina impresionan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7ff"/>
                </a:solidFill>
                <a:latin typeface="Arial Black"/>
              </a:rPr>
              <a:t>Mi comedor!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mi comedor grande en mi mansió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4876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e1f08"/>
                </a:solidFill>
                <a:latin typeface="Arial Black"/>
              </a:rPr>
              <a:t>Sala!</a:t>
            </a:r>
            <a:endParaRPr b="0" lang="en-US" sz="9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rico sala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85800" y="2433600"/>
            <a:ext cx="76960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El baño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fresco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bañ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2438280" y="2490840"/>
            <a:ext cx="43815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7ff"/>
                </a:solidFill>
                <a:latin typeface="Arial Black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favorito cuarto en la mansió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436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7ff"/>
                </a:solidFill>
                <a:latin typeface="Arial Black"/>
              </a:rPr>
              <a:t>Mi pat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and pati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a yard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magnífic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yard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066680" y="2492280"/>
            <a:ext cx="655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7:37Z</dcterms:created>
  <dc:creator>morrisoneva</dc:creator>
  <dc:description/>
  <dc:language>en-US</dc:language>
  <cp:lastModifiedBy>morrisoneva</cp:lastModifiedBy>
  <dcterms:modified xsi:type="dcterms:W3CDTF">2013-04-04T15:22:24Z</dcterms:modified>
  <cp:revision>4</cp:revision>
  <dc:subject/>
  <dc:title>Mi Mansion</dc:title>
</cp:coreProperties>
</file>